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4825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635-B3DB-4B89-9689-953E0CF1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F4B-FFBC-445C-9EDF-F04DDC5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79C-07C4-4BAD-B461-42D913C1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D3B-EDC5-4061-A40E-FFF7F02B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FD7-1C70-4773-906E-B6C5586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004-203C-4997-9F6F-C2A137B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93E-1970-49BA-8EE6-1AC2BD5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5DD-23A3-48E9-AACF-29B1F04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CC7-051D-4628-B079-8D76F537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D52-2FBF-4066-9564-3EA43B6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588-D92D-4548-88E4-EE3E070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6DA-AA1C-4F8E-AA26-3175A3A7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6A34-E39D-4FAF-A0EE-3739D6AB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If you want better answers, ask better questions.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pplying</a:t>
            </a:r>
            <a:br>
              <a:rPr sz="48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earner makes use of information in a context different from the one in which it was learn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rying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ecu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n you use the information in another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miliar situa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6352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pply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ipu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hib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llust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pr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e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view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371600"/>
            <a:ext cx="4952880" cy="54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r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981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trategies, concepts, principles and theories in new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4191120"/>
            <a:ext cx="342900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oto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ul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mon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ournal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room Roles for Applying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w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cili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serv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z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stions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ves probl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onstrates use of knowled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lcul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i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le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llustrat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struct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e recip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ffff"/>
                </a:solidFill>
                <a:latin typeface="Arial"/>
              </a:rPr>
              <a:t>Analyzing</a:t>
            </a:r>
            <a:br>
              <a:rPr sz="48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earner breaks learned information into its parts to best understand that informa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ompa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Organiz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construc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Attribu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Find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Structu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tegra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Can you break information into parts to explore understandings and relationships?</a:t>
            </a: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91240" y="2209680"/>
            <a:ext cx="263376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alys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inguis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ra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pa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qui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f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iticiz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89160"/>
            <a:ext cx="495324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tego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rimin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9810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ing information down into its component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ut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port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Analyz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b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uid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bserv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valu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s as a resour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rgani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sect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cu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cov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g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b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nks deepl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s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in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lcul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vestig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qui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ive participan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valuating</a:t>
            </a:r>
            <a:br>
              <a:rPr sz="40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arner makes decisions based on in-depth reflection, criticism and assessme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heck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Hypothes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ritiqu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Experimen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Judg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tec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an you justify a decision or course of ac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706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valuat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ud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id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o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f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orit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ll wh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e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asu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371600"/>
            <a:ext cx="495288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u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m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r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iti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828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dging the value of ideas, materials and methods by developing and applying standards and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191120"/>
            <a:ext cx="3429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343400"/>
            <a:ext cx="19051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suasive speech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Evaluat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cher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arif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cep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uid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udent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udg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pu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pa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ritiq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g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sse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cid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lect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ustif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ive participa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reating</a:t>
            </a:r>
            <a:br>
              <a:rPr sz="48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arner creates new ideas and information using what has been previously learne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sig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onstruc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Produc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ven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v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an you generate new products, ideas, or ways of viewing thing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5002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are engaged only in lower-order thinking; i.e. they receive, or recite, or participate in routine practice.  In no activities during the lesson do students go beyond simple reproduction of knowledg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are primarily engaged in routine lower-order thinking for a good share of the lesson.  There is at least one significant question or activity in which some students perform some higher-order think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most all students, almost all of the time are engaged in higher-order thinking. 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reat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em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gan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i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eca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o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u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p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igin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ag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371600"/>
            <a:ext cx="4952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o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90512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tting together ideas or elements to develop a original idea or engage in creative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s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inting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room Roles for Creat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acilita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tend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aly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es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ig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ul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kes ris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dif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re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po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e particip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333399"/>
                </a:solidFill>
                <a:latin typeface="Arial"/>
              </a:rPr>
              <a:t>A good teacher makes you think even when you don’t want to.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Arial"/>
              </a:rPr>
              <a:t>(Fisher, 1998, </a:t>
            </a:r>
            <a:r>
              <a:rPr b="1" i="1" lang="en-AU" sz="3600" spc="-1" strike="noStrike">
                <a:solidFill>
                  <a:srgbClr val="333399"/>
                </a:solidFill>
                <a:latin typeface="Arial"/>
              </a:rPr>
              <a:t>Teaching Thinking</a:t>
            </a:r>
            <a:r>
              <a:rPr b="0" lang="en-A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A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riginal Terms            New Ter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nthe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rehen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1752480"/>
            <a:ext cx="358128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07400">
            <a:off x="3580920" y="213372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867800">
            <a:off x="3581280" y="228564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4290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191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0292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ed7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58672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ased on Pohl, 2000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earning to Think, Thinking to Learn, p. 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Remembering</a:t>
            </a:r>
            <a:br>
              <a:rPr sz="40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arner is able to recall, restate and remember learned informatio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Recogn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Lis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scrib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dentify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Retriev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Nam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Loca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Find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an you recall informa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373560" cy="37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member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emoris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la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Distinguish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Give exampl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produc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Quo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peat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Label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call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Know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Group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ad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ri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4952880" cy="54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d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1981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ll or recognition of 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Remember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ec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w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t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pon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orb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memb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mor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f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crib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te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ssive recip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Understanding</a:t>
            </a:r>
            <a:br>
              <a:rPr sz="40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earner grasps the meaning of information by interpreting and translating what has been learn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Exemplify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Summar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fer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lassify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ompa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Explai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Can you explain ideas or concept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38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nderstand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u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el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no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examples o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aphra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organ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oci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371600"/>
            <a:ext cx="4952880" cy="63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oun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ing of give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w and t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utlin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Understand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onstr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ste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a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tras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ines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plai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crib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utl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nsl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onstr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pre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e particip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10:42:59Z</dcterms:created>
  <dc:creator>Denise Margaret Tarlinton</dc:creator>
  <dc:description/>
  <dc:language>en-US</dc:language>
  <cp:lastModifiedBy>ccps</cp:lastModifiedBy>
  <dcterms:modified xsi:type="dcterms:W3CDTF">2010-04-26T18:10:08Z</dcterms:modified>
  <cp:revision>89</cp:revision>
  <dc:subject/>
  <dc:title>BLOOM’s REVISED TAXONOMY</dc:title>
</cp:coreProperties>
</file>